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445C-B9C6-47A7-ADFB-DFCFD3591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ECA3-CB9E-41D2-99F4-BBD9B04169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3A2B-D94C-431F-A980-199BAC30E9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9129-6EEC-4D59-B8E6-BA1346873D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96E3-60C6-4566-AC30-2B048186CE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A874-B16B-46FC-8DD1-0125622556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F4A8-4B65-4A0E-8D94-FB173D500A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C693-841B-42C9-AE58-EB6EBFFBFC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7A75-4769-4640-8B4B-AC0A756AF6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2CFE-A7D5-4E9E-B28C-1246C879CF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3F32-E049-40EE-B659-6FFA3D85C9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4E4C-6634-47A5-A9C0-837E406B80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87D9-5AE0-4BB2-BF8F-B11AC4B724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79DF-2219-404C-84CA-B0B2ED1A88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9C12-2A92-46A2-A8FD-39335CC645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5CB3-8836-4053-847B-A13B9CA4B7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2DAD-06DA-4981-ABAD-788327EE09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FDCE-9298-4D35-A80C-ECFDDD7C8B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433A-870D-421A-85D0-6B75311C8C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B65F-DB07-4980-8A0D-AB3A7A780D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EA70-0B13-455F-B63D-60BAAF5630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76B-1D0A-4AC3-9C4D-286F9B5D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45C-CE26-4480-BFAB-06CAF09C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F37-17EA-4387-AD8E-74FD6C53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DA22-6A84-4E52-A92A-099EB5A5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246D-393D-49E0-A523-869088E6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1C79-6FA3-4D22-B0A0-E2AF5C00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42B2-6F56-4572-8C14-6C91A910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EBF8-74A4-4E8D-9049-FE4E649B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456D-2E09-4ACD-83B6-E0AA15DC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B562-DF48-41B6-BA87-89499836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503E-31C3-4034-B286-A3BD7F62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8D4-580C-49EE-87EA-B7FE24DE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55F7-8E0C-4E4E-8EC9-1611CB9F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D170-C2F4-496C-8BCE-39422F76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331D-EC4E-4F12-BAF2-E9436C55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E573-1177-4401-A61E-DAD48D50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487B-3398-4B5E-AFA3-09A42E26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2AD-5756-468A-ADC6-7AE4839C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7B0-C419-48CA-8C90-D3175EEC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6EC-D85E-4175-82BF-99F1E3E7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F48-CF45-473E-8836-9917EBDC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EEB4-B504-4BF3-B223-89C6258F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1BB-3CFF-47D1-82C3-73CC682F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53A-8F57-4879-852E-36325784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111A-50FD-4D3F-88D7-D135FC809A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988E-F89A-4CB8-9366-F7AFE079BE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609480" y="3049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Chapter Nine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The Jeffersonian Era: </a:t>
            </a:r>
            <a:br>
              <a:rPr sz="6000"/>
            </a:b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America, 1801-1809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HIST 2111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2286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Hamilton-Burr Du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990720"/>
            <a:ext cx="4572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eehawken, NJ, July 18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urr shot and killed Hamil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Events leading up to the du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he du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he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Afterma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Burr trave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Burr’s Conspir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James Wilkins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NOT GUIL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9" descr="2004_07_hamiltonburrduel"/>
          <p:cNvPicPr/>
          <p:nvPr/>
        </p:nvPicPr>
        <p:blipFill>
          <a:blip r:embed="rId1"/>
          <a:stretch/>
        </p:blipFill>
        <p:spPr>
          <a:xfrm>
            <a:off x="5181480" y="990720"/>
            <a:ext cx="3399120" cy="50292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5257800" y="6216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photo from the July 11, 2004 reenactment of the Du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reign Disputes during Jefferson’s Second T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04920" y="1143000"/>
            <a:ext cx="4572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mpressment and ship seizures contin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The Leopard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(GBr) and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The Chesapeake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(US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reparations for w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Op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Non-Importation Act and Embargo 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Non-Intercourse 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16" descr="Chesapeake"/>
          <p:cNvPicPr/>
          <p:nvPr/>
        </p:nvPicPr>
        <p:blipFill>
          <a:blip r:embed="rId1"/>
          <a:stretch/>
        </p:blipFill>
        <p:spPr>
          <a:xfrm>
            <a:off x="4648320" y="1219320"/>
            <a:ext cx="42670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Jefferson’s Retirement and Last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57200" y="990720"/>
            <a:ext cx="4572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cience, natural history and agricul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Monticel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American Philosophical Socie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Letter-wri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John Ada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University of Virgi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Library of Con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Died July 4, 182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4" descr="800px-Thomas_Jefferson%27s_Monticello_Estate"/>
          <p:cNvPicPr/>
          <p:nvPr/>
        </p:nvPicPr>
        <p:blipFill>
          <a:blip r:embed="rId1"/>
          <a:stretch/>
        </p:blipFill>
        <p:spPr>
          <a:xfrm>
            <a:off x="3962520" y="274320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Presidency of James Madison (1809-181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0" y="762120"/>
            <a:ext cx="4572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io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ndian Confli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William Henry Harri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enskwataw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ecumse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he Battle of Tippecanoe, 1811, India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5" descr="William_H"/>
          <p:cNvPicPr/>
          <p:nvPr/>
        </p:nvPicPr>
        <p:blipFill>
          <a:blip r:embed="rId1"/>
          <a:stretch/>
        </p:blipFill>
        <p:spPr>
          <a:xfrm>
            <a:off x="6019920" y="1447920"/>
            <a:ext cx="2368440" cy="327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IN_5175"/>
          <p:cNvPicPr/>
          <p:nvPr/>
        </p:nvPicPr>
        <p:blipFill>
          <a:blip r:embed="rId2"/>
          <a:stretch/>
        </p:blipFill>
        <p:spPr>
          <a:xfrm>
            <a:off x="1371600" y="3733920"/>
            <a:ext cx="3809880" cy="2381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4"/>
          <p:cNvSpPr/>
          <p:nvPr/>
        </p:nvSpPr>
        <p:spPr>
          <a:xfrm>
            <a:off x="1447920" y="61722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ent-day location of the batt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Ch9tenskwatawa"/>
          <p:cNvPicPr/>
          <p:nvPr/>
        </p:nvPicPr>
        <p:blipFill>
          <a:blip r:embed="rId1"/>
          <a:stretch/>
        </p:blipFill>
        <p:spPr>
          <a:xfrm>
            <a:off x="1143000" y="685800"/>
            <a:ext cx="3486240" cy="4286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tecumseh"/>
          <p:cNvPicPr/>
          <p:nvPr/>
        </p:nvPicPr>
        <p:blipFill>
          <a:blip r:embed="rId2"/>
          <a:stretch/>
        </p:blipFill>
        <p:spPr>
          <a:xfrm>
            <a:off x="4876920" y="685800"/>
            <a:ext cx="3479760" cy="4267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1600200" y="50292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nskwatawa (left) and Tecumseh (right), Shawn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457200" y="1295280"/>
            <a:ext cx="4572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nflict with the British continu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adison eager for W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War Haw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ritish develop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ar declared, summer 18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War of 18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286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War of 18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57200" y="1295280"/>
            <a:ext cx="4572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anada and the Great Lak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British capture Detroit and Northw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w/ death of Tecumseh and American naval ships, U.S. bounces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2286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War of 18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28600" y="1066680"/>
            <a:ext cx="4572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tlantic Oc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mall and outnumbered U.S. N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The U.S.S. Constitu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Private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7" descr="USS_Constitution_1997"/>
          <p:cNvPicPr/>
          <p:nvPr/>
        </p:nvPicPr>
        <p:blipFill>
          <a:blip r:embed="rId1"/>
          <a:stretch/>
        </p:blipFill>
        <p:spPr>
          <a:xfrm>
            <a:off x="3276720" y="2473200"/>
            <a:ext cx="5867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304920" y="12193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Atlantic Co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Ma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he Chesapea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The Burning of Washington, D.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ff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Dolley Madis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Francis Scott Key / Fort McHen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ff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The Star-Spangled Banner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286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War of 18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9" descr="Dmadison"/>
          <p:cNvPicPr/>
          <p:nvPr/>
        </p:nvPicPr>
        <p:blipFill>
          <a:blip r:embed="rId1"/>
          <a:stretch/>
        </p:blipFill>
        <p:spPr>
          <a:xfrm>
            <a:off x="5638680" y="1143000"/>
            <a:ext cx="2594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800px-Bombardment2"/>
          <p:cNvPicPr/>
          <p:nvPr/>
        </p:nvPicPr>
        <p:blipFill>
          <a:blip r:embed="rId1"/>
          <a:stretch/>
        </p:blipFill>
        <p:spPr>
          <a:xfrm>
            <a:off x="762120" y="638280"/>
            <a:ext cx="761976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397800" y="228600"/>
            <a:ext cx="307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Term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530280" y="878040"/>
            <a:ext cx="8223120" cy="70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2286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War of 18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286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War of 18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914400"/>
            <a:ext cx="4572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South (2 wa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Andrew Jack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he Creek (Indian) W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(Red Stick trib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The Battle of Horseshoe B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Treaty with Cree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Fighting continues until 18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13" descr="horseshoe_bend_war_1813-14"/>
          <p:cNvPicPr/>
          <p:nvPr/>
        </p:nvPicPr>
        <p:blipFill>
          <a:blip r:embed="rId1"/>
          <a:stretch/>
        </p:blipFill>
        <p:spPr>
          <a:xfrm>
            <a:off x="5029200" y="1066680"/>
            <a:ext cx="3781440" cy="5105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horseshoe_bend_cessions"/>
          <p:cNvPicPr/>
          <p:nvPr/>
        </p:nvPicPr>
        <p:blipFill>
          <a:blip r:embed="rId2"/>
          <a:stretch/>
        </p:blipFill>
        <p:spPr>
          <a:xfrm>
            <a:off x="914400" y="3581280"/>
            <a:ext cx="28195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152280" y="914400"/>
            <a:ext cx="4572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ar with the Briti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Gulf Coa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he Battle of New Orle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8" descr="463px-StLouisCathedralJacksonStatue"/>
          <p:cNvPicPr/>
          <p:nvPr/>
        </p:nvPicPr>
        <p:blipFill>
          <a:blip r:embed="rId1"/>
          <a:stretch/>
        </p:blipFill>
        <p:spPr>
          <a:xfrm>
            <a:off x="5557680" y="990720"/>
            <a:ext cx="3586320" cy="46386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"/>
          <p:cNvSpPr/>
          <p:nvPr/>
        </p:nvSpPr>
        <p:spPr>
          <a:xfrm>
            <a:off x="1066680" y="7391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ackson Square in New Orlea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2286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War of 18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5486400" y="56386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ackson Square in New Orlea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13" descr="Battle of New Orleans"/>
          <p:cNvPicPr/>
          <p:nvPr/>
        </p:nvPicPr>
        <p:blipFill>
          <a:blip r:embed="rId2"/>
          <a:stretch/>
        </p:blipFill>
        <p:spPr>
          <a:xfrm>
            <a:off x="228600" y="2514600"/>
            <a:ext cx="525780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152280" y="914400"/>
            <a:ext cx="47246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Hartford Conven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December 1814; secret me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ederalists meet to propose Constitutional Amend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Ban on anti-trading law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Increase taxes on Sou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Require 2/3 majority of Congress for several thing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1-term limit for presid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No president can come from the same state as the previous presid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he Convention is a failure, goes public at the same time as the Treaty of Gh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Ruins Federali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57200" y="1295280"/>
            <a:ext cx="4572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Treaty of Gh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Return to status qu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ayment of damages on both si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Effects of the W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lav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Can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Great Brit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Ame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Industrializ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Westward expans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National pri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Political chang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286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War of 18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604800" y="457200"/>
            <a:ext cx="299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380880" y="1263600"/>
            <a:ext cx="7010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What were some of the ways Jefferson and his Democratic-Republicans put their ideas about government in to practice?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2. What were some of the setbacks encountered by the Jefferson Administration?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3. What were some of the outcomes of the War of 1812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homas Jefferson’s First Term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Democratic-Republicans’ belief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Jefferson and Congres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Repeal internal taxes and whiskey ta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Decrease military budget and personn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Repeal Alien and Sedition A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9" descr="442px-Reproduction-of-the-1805-Rembrandt-Peale-painting-of-Thomas-Jefferson-New-York-Historical-Society_1"/>
          <p:cNvPicPr/>
          <p:nvPr/>
        </p:nvPicPr>
        <p:blipFill>
          <a:blip r:embed="rId1"/>
          <a:stretch/>
        </p:blipFill>
        <p:spPr>
          <a:xfrm>
            <a:off x="4952880" y="990720"/>
            <a:ext cx="39848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152280" y="1066680"/>
            <a:ext cx="5105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ttack on the Judici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Congress repeals Judiciary Act of 180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Jeff. Administration blocks nominations of Jud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eachment of John Pickering (successfu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eachment of Samuel Chase (not successfu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8" descr="Samuel_Chase"/>
          <p:cNvPicPr/>
          <p:nvPr/>
        </p:nvPicPr>
        <p:blipFill>
          <a:blip r:embed="rId1"/>
          <a:stretch/>
        </p:blipFill>
        <p:spPr>
          <a:xfrm>
            <a:off x="5562720" y="990720"/>
            <a:ext cx="2828880" cy="4676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5715000" y="5715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muel Cha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52280" y="1066680"/>
            <a:ext cx="5105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ttack on the Judiciary, continu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Marbury v. Madison (180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Chief Justice John Marsha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William Marbu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No jurisdi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6" descr="Marbury"/>
          <p:cNvPicPr/>
          <p:nvPr/>
        </p:nvPicPr>
        <p:blipFill>
          <a:blip r:embed="rId1"/>
          <a:stretch/>
        </p:blipFill>
        <p:spPr>
          <a:xfrm>
            <a:off x="5410080" y="914400"/>
            <a:ext cx="3417840" cy="4419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5715000" y="5410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lliam Marbu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2286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he Louisiana Purchase, Lewis and Clark,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and the Corps of Discove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52280" y="1143000"/>
            <a:ext cx="5105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ackground; Napole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1803: 827,000 mi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², $15 m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Constitutional issu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Frank_bond_1912_louisiana_and_the_louisiana_purchase"/>
          <p:cNvPicPr/>
          <p:nvPr/>
        </p:nvPicPr>
        <p:blipFill>
          <a:blip r:embed="rId1"/>
          <a:stretch/>
        </p:blipFill>
        <p:spPr>
          <a:xfrm>
            <a:off x="1219320" y="2492280"/>
            <a:ext cx="71434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2286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he Louisiana Purchase, Lewis and Clark,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and the Corps of Discove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52280" y="1295280"/>
            <a:ext cx="5105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Journey of the Corps of Discov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Meriwether Lewis and William Cla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  <a:ea typeface="Tahoma"/>
              </a:rPr>
              <a:t>The journ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  <a:ea typeface="Tahoma"/>
              </a:rPr>
              <a:t>Natural history/other benefi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  <a:ea typeface="Tahoma"/>
              </a:rPr>
              <a:t>Sacagawea (Indian guid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  <a:ea typeface="Tahoma"/>
              </a:rPr>
              <a:t>Y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Zebulon Pike’s exped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  <a:ea typeface="Tahoma"/>
              </a:rPr>
              <a:t>Pike’s Peak, Color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7" descr="Lewis_and_Clark"/>
          <p:cNvPicPr/>
          <p:nvPr/>
        </p:nvPicPr>
        <p:blipFill>
          <a:blip r:embed="rId1"/>
          <a:stretch/>
        </p:blipFill>
        <p:spPr>
          <a:xfrm>
            <a:off x="5029200" y="1752480"/>
            <a:ext cx="39625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trailmap"/>
          <p:cNvPicPr/>
          <p:nvPr/>
        </p:nvPicPr>
        <p:blipFill>
          <a:blip r:embed="rId1"/>
          <a:stretch/>
        </p:blipFill>
        <p:spPr>
          <a:xfrm>
            <a:off x="1143000" y="457200"/>
            <a:ext cx="70437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20:34:09Z</dcterms:created>
  <dc:creator>Daniel J. Tortora</dc:creator>
  <dc:description/>
  <dc:language>en-US</dc:language>
  <cp:lastModifiedBy>J Franklin Williamson</cp:lastModifiedBy>
  <dcterms:modified xsi:type="dcterms:W3CDTF">2019-03-26T10:23:59Z</dcterms:modified>
  <cp:revision>58</cp:revision>
  <dc:subject/>
  <dc:title>The Early Republic</dc:title>
</cp:coreProperties>
</file>